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7D72-E3F7-46CC-9170-F93431A1792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B3A7E-3A66-4B5D-9D21-8886687402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sit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including twelve pedagogical principles) and other available relevant documents, including the Big Ideas of Science, and the Big Ideas of D&amp;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collaborative approaches provided via regional consortia – build your local networks at different tiers in staff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 to consider the impact and pedagogy behind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before detailed review of the area of learning requirement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ary heads of department in particular need to collaborate early on – are they brought together to do tha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resources do you have locally outside of school?  Local business/organisations/parents/carers to help enhance learning experience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skills do all your staff have? What more might they need? Start planning and accessing up skilling opportunities now.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a huge range of support for STEM learning – lots of it free to schools – decide what you need then shop around/ask regional consortia.</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Hwb (including National Network for Excellence in Science and Technology Zone) to start project/theme/STEM approach to learn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tabling will likely come up – but should fall out of collaborative planning, not set before curriculum development happen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disciplinary and thematic approaches can create ‘space’ to enhance Science and Technology learning experiences (and those in other areas of learning and experience) if they are well thought through. Keep a watch on c</a:t>
            </a:r>
            <a:r>
              <a:rPr b="0" lang="en-US" sz="1200" spc="-1" strike="noStrike">
                <a:solidFill>
                  <a:srgbClr val="000000"/>
                </a:solidFill>
                <a:latin typeface="Arial"/>
                <a:ea typeface="Arial"/>
              </a:rPr>
              <a:t>ross-curricular and inter-dependent aspects to avoid duplication and truly create that space for ‘new’ aspects of learning, and development of new approache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unding, facilities and organising groupings needs careful considerat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AD7A-6722-4E05-B529-3FAE1D2532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uld science be organised separate to design and technology and computing, thus creating a seventh area of learning and experience? Would computation better sit with Mathematics and Numeracy? These are difficult questions, particularly as Science and Technology is by nature a vast and growing area of learning. However, on balanc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recommended that they are organised together in this way due to the inextricable links between these traditional and, in some respects, historical subject domains. This is also evident in the way the what matters statements interact but that’s for later 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key here is that curriculum development – and resulting learning and teaching – should not start from a premise that these are separate and distinct subject ‘silos’ within this area of learning and experience. Collaborative development and looking across what matters statements in Science and Technology is essential for this area of learning and experience to function effectively as a key aspect of school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iences through design, discovery and innovation generate curiosity and creativity, which can enable deep learning. Bringing science and technology together as an area of learning facilitates meaningful collaborative and coherent local curriculum development, and that collaborative approach to the curriculum can result in better engaged learners and enhanced learning experi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B962-D461-462E-A9CD-A5C6D54C369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6127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makes a compelling case for change. Also many practitioners – from the primary and secondary sector – have voiced concerns over current curriculum arrang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 knowledge and understanding of the world through science and technology forms an important part of our culture and economy. And there is an economic imperative to develop more STEM (science, technology, engineering and mathematics) skills and knowledge in Wales and across the UK – that’s a given. STEM study gives greater chances of finding rewarding work, and better salaries, right across the ability r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ceptions regarding STEM (including gender stereotyping – worth noting) can start at a very early age so it is essential that we engage all learners in science and technology from an early age. What could be more exciting and motivating than learning about ourselves and the world in which we liv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a world of fast-paced science and technology development, as well as increasing amounts of information presented as fact, there is an imperative to ensure a baseline of science and technology understanding. We need to equip all learners, no matter whether they take up further STEM-related learning or careers, so they can thrive and survive in a science and technology driven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and the Organisation for Economic Co-operation and Development (OECD) and other comparators (e.g. labour market information, skills needs assessments, learner progression data) are also flagging the need for young people to have greater science and technology understand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science does require good literacy – and it does look at critical and contextual thinking skills – but PISA also requires a strong base of scientific knowledge. You need a good knowledge base on which to think critically. There shouldn’t be debate between this being a ‘skills’ or a ‘knowledge’ curriculum – that’s a false dichotomy.  For Science and Technology both are needed in balance, with real-world experiences helping learners contextualise learning and recognise the value of it. There is a recognised body of knowledge and a rage of skills needed here – that is best developed from the early years through to age 1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29FC-DF1C-4ACE-8A0E-D472B470D20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5499000"/>
          </a:xfrm>
          <a:prstGeom prst="rect">
            <a:avLst/>
          </a:prstGeom>
          <a:noFill/>
          <a:ln w="0">
            <a:noFill/>
          </a:ln>
        </p:spPr>
        <p:txBody>
          <a:bodyPr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utation is a new area to </a:t>
            </a:r>
            <a:r>
              <a:rPr b="0" lang="en-US" sz="1200" spc="-1" strike="noStrike">
                <a:solidFill>
                  <a:srgbClr val="000000"/>
                </a:solidFill>
                <a:latin typeface="Arial"/>
                <a:ea typeface="Arial"/>
              </a:rPr>
              <a:t>meet the needs of a changing twenty-first century culture and economy. It extends beyond digital competence, but does not replace it. Digital competence remains a cross-curricular responsibility.  </a:t>
            </a:r>
            <a:r>
              <a:rPr b="0" lang="en-GB" sz="1200" spc="-1" strike="noStrike">
                <a:solidFill>
                  <a:srgbClr val="000000"/>
                </a:solidFill>
                <a:latin typeface="Arial"/>
                <a:ea typeface="Arial"/>
              </a:rPr>
              <a:t>Computation is not a new name for information and communication technology (ICT) or computational thinking – it will build conceptual understanding that learners need to become creators of and through technology. Focus on concepts should allow the curriculum nationally to remain in currency in this fast-paced area of socie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ffective experiential learning from ages 3 to 16 takes into account the good practice in Foundation Phase and extends across the continuum.  Learner input </a:t>
            </a:r>
            <a:r>
              <a:rPr b="0" lang="en-US" sz="1200" spc="-1" strike="noStrike">
                <a:solidFill>
                  <a:srgbClr val="000000"/>
                </a:solidFill>
                <a:latin typeface="Arial"/>
                <a:ea typeface="Arial"/>
              </a:rPr>
              <a:t>in their learning is most effective when professionalism and expertise ensures progression and rigour is key to activities. It offers a more </a:t>
            </a:r>
            <a:r>
              <a:rPr b="0" lang="en-GB" sz="1200" spc="-1" strike="noStrike">
                <a:solidFill>
                  <a:srgbClr val="000000"/>
                </a:solidFill>
                <a:latin typeface="Arial"/>
                <a:ea typeface="Arial"/>
              </a:rPr>
              <a:t>holistic approach when working thematically – curriculum development can ensure a rich learning experience. </a:t>
            </a:r>
            <a:r>
              <a:rPr b="0" lang="en-US" sz="1200" spc="-1" strike="noStrike">
                <a:solidFill>
                  <a:srgbClr val="000000"/>
                </a:solidFill>
                <a:latin typeface="Arial"/>
                <a:ea typeface="Arial"/>
              </a:rPr>
              <a:t>However, discrete teaching still has its place in Science and Technology, as does specialist teaching in later learning. </a:t>
            </a:r>
            <a:r>
              <a:rPr b="0" lang="en-GB" sz="1200" spc="-1" strike="noStrike">
                <a:solidFill>
                  <a:srgbClr val="000000"/>
                </a:solidFill>
                <a:latin typeface="Arial"/>
                <a:ea typeface="Arial"/>
              </a:rPr>
              <a:t>Balance is needed between discrete and thematic approaches (see the 12 pedagogical principles in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rands of progression in Science and Technology do not start at Progression step 1 or 2.  Early steps can build foundations of learning towards some complex concepts later, but others are introduced when considered developmentally appropri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Authentic learning experiences are enhanced through links with the local community, industry, businesses and other relevant organisations. There are whole-school advantages to such approaches but these are particularly relevant to Science and Technology.  Equally, it’s essential that learners are given space to develop their procedural understanding and the scientific base for considering the implications of our actions on each other and the worl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6B21-C751-4AFD-B474-0CBFB5EDA2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matters statements in Science and Technology explain the main thrust of the teaching and the implications of pedagogy involv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 looking at curiosity and searching for answers, alongside the implications of Science and Technology – is designed to be integral to all other what matters statem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are also multiple relationships between what matters statements within the area of learning and experience – and across other areas of learning and experience. This is by design and it is key that school-level curriculum development looks across what matters statements and does not consider them in isolation or as silos of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edback on what matters statements from practitioners from other areas of learning and experience in January 2019 noted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clarity and accessibility of six what matters statements – provided good rationale for aspects of learning and focus for curriculum development.</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the ‘stranding approach’ (progression in each what matters area is broken down into ‘strands’ of learning across progression steps) as they highlight learning progression and useful support for teach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way the links have been made with other areas of learning and experienc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approach of how the what matters statements must be used together to be meaningful.</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at meaning and understanding is added to content – and how it can be applied across multidisciplinary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63D2-2F17-400F-981C-DE3528BFE6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ple iterations of the what matters statements were tested within the Pioneer Group, which proved to be a tricky process with different evidence and inputs provided, sometimes conflicting. Balanced judgements have been made, staying true to th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vision, with the resulting what matters statements being well received by non-Science and Technology pioneer practitioners who considered pre-release of drafts. A lot of positive feedback from wider groups too, including the Curriculum and Assessment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gression of learning is now far clearer in the current structure of the area of learning and experience than in early iterations of what matters statements. Those early approaches didn’t provide the clarity (or spotlight) on key Science and Technology concepts which form the basis of progression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worth noting that the more ‘domain’-specific what matters statements do not capture all of the traditional subjects; they are selective in what is considered essential for learning progression in key concepts. They place a ‘spotlight’ on what is the essence of ‘what matters’ in learning. Schools are free to go beyond if desired, but may prefer to create more ‘space’ for deeper conceptual understanding in the areas presented, and gradual development of learner ‘agility’ to transfer learning to wider contex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fessor Wynne Harlen's work on ‘Big Ideas of Science Education' was highly influential – leading to what matters statements as organisers for the whole curriculum. Her approach for science was also the concept adopted by the area of learning and experience to have more domain-specific statements ‘of’ science and technology alongside one ‘about’ science and technology which pulls the whole together. Within that statement ‘about’ science and technology there are essential aspects – such as the implications of science and technology clearly flagged and should be exploited throughout learning – not seen as discrete ‘bolt-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622-FAD3-40E5-B11C-031C03198D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765D0-599D-4C94-9640-BB5B8893B3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0E305-C3AE-4A7C-92D2-9B768B7C598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
          <p:cNvPicPr/>
          <p:nvPr/>
        </p:nvPicPr>
        <p:blipFill>
          <a:blip r:embed="rId2"/>
          <a:stretch/>
        </p:blipFill>
        <p:spPr>
          <a:xfrm>
            <a:off x="0" y="3240"/>
            <a:ext cx="9144000" cy="685152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37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5720" indent="-16992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198440" indent="-16956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1520" indent="-169920">
              <a:lnSpc>
                <a:spcPct val="90000"/>
              </a:lnSpc>
              <a:spcBef>
                <a:spcPts val="374"/>
              </a:spcBef>
              <a:buClr>
                <a:srgbClr val="000000"/>
              </a:buClr>
              <a:buFont typeface="Arial"/>
              <a:buChar char="•"/>
              <a:tabLst>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7" name="Rectangle 2"/>
          <p:cNvSpPr/>
          <p:nvPr/>
        </p:nvSpPr>
        <p:spPr>
          <a:xfrm>
            <a:off x="230040" y="1868400"/>
            <a:ext cx="8775720" cy="44809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r>
              <a:rPr b="0" lang="en-US" sz="2400" spc="-1" strike="noStrike">
                <a:solidFill>
                  <a:srgbClr val="000000"/>
                </a:solidFill>
                <a:latin typeface="Arial"/>
              </a:rPr>
              <a:t> expectations for learning in this area of learning and experience may cause some staff initial concern. How will you plan to mitigate that? Will specific professional learning be needed?</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r>
              <a:rPr b="0" lang="en-US" sz="2400" spc="-1" strike="noStrike">
                <a:solidFill>
                  <a:srgbClr val="000000"/>
                </a:solidFill>
                <a:latin typeface="Arial"/>
              </a:rPr>
              <a:t>: expectation that learners will have access to subject-specialist teachers as they progress. How will you facilitate this in your school?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readth of the area of learning and experience and how you will manage the new computation element.  What is needed to ensure the success of thi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 implications for your school arising from this particular area of learning and exper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Vision and philosophy</a:t>
            </a:r>
            <a:endParaRPr b="0" lang="en-US" sz="3800" spc="-1" strike="noStrike">
              <a:solidFill>
                <a:srgbClr val="000000"/>
              </a:solidFill>
              <a:latin typeface="Calibri"/>
            </a:endParaRPr>
          </a:p>
        </p:txBody>
      </p:sp>
      <p:sp>
        <p:nvSpPr>
          <p:cNvPr id="121" name="Rectangle 2"/>
          <p:cNvSpPr/>
          <p:nvPr/>
        </p:nvSpPr>
        <p:spPr>
          <a:xfrm>
            <a:off x="230040" y="2035080"/>
            <a:ext cx="8512200" cy="377856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are intrinsically linked, and includes design and technology, engineering, computer science, </a:t>
            </a:r>
            <a:br>
              <a:rPr sz="2200"/>
            </a:br>
            <a:r>
              <a:rPr b="0" lang="en-US" sz="2200" spc="-1" strike="noStrike">
                <a:solidFill>
                  <a:srgbClr val="000000"/>
                </a:solidFill>
                <a:latin typeface="Arial"/>
                <a:ea typeface="Arial"/>
              </a:rPr>
              <a:t>biology, chemistry and physic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demands a coherent framework </a:t>
            </a:r>
            <a:br>
              <a:rPr sz="2200"/>
            </a:br>
            <a:r>
              <a:rPr b="0" lang="en-US" sz="2200" spc="-1" strike="noStrike">
                <a:solidFill>
                  <a:srgbClr val="000000"/>
                </a:solidFill>
                <a:latin typeface="Arial"/>
                <a:ea typeface="Arial"/>
              </a:rPr>
              <a:t>for learning across traditional domains, reflecting real-world need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derlying concepts of science and computational thinking enable technological advancement.</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cience and Technology supports progression in and across subject specialisms, and prepares learners to use science and technology in their every day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The rationale for change</a:t>
            </a:r>
            <a:endParaRPr b="0" lang="en-US" sz="3800" spc="-1" strike="noStrike">
              <a:solidFill>
                <a:srgbClr val="000000"/>
              </a:solidFill>
              <a:latin typeface="Calibri"/>
            </a:endParaRPr>
          </a:p>
        </p:txBody>
      </p:sp>
      <p:sp>
        <p:nvSpPr>
          <p:cNvPr id="123" name="Rectangle 2"/>
          <p:cNvSpPr/>
          <p:nvPr/>
        </p:nvSpPr>
        <p:spPr>
          <a:xfrm>
            <a:off x="230040" y="2035080"/>
            <a:ext cx="8523360" cy="484668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undaries of science and technology are continuously changing.</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conomic imperative – huge opportunities for learne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learners to meet twenty-first century challenges and opportunities irrespective of career choice.</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urrent learner preparation insufficient to meet need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knowledge </a:t>
            </a:r>
            <a:r>
              <a:rPr b="1" lang="en-GB" sz="2400" spc="-1" strike="noStrike">
                <a:solidFill>
                  <a:srgbClr val="000000"/>
                </a:solidFill>
                <a:latin typeface="Arial"/>
                <a:ea typeface="Arial"/>
              </a:rPr>
              <a:t>and</a:t>
            </a:r>
            <a:r>
              <a:rPr b="0" lang="en-GB" sz="2400" spc="-1" strike="noStrike">
                <a:solidFill>
                  <a:srgbClr val="000000"/>
                </a:solidFill>
                <a:latin typeface="Arial"/>
                <a:ea typeface="Arial"/>
              </a:rPr>
              <a:t> skills – contextualised through experience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creators of and through technology, not just competent users – hence conceptual understanding of computation.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is it different?</a:t>
            </a:r>
            <a:endParaRPr b="0" lang="en-US" sz="3800" spc="-1" strike="noStrike">
              <a:solidFill>
                <a:srgbClr val="000000"/>
              </a:solidFill>
              <a:latin typeface="Calibri"/>
            </a:endParaRPr>
          </a:p>
        </p:txBody>
      </p:sp>
      <p:sp>
        <p:nvSpPr>
          <p:cNvPr id="125" name="Rectangle 2"/>
          <p:cNvSpPr/>
          <p:nvPr/>
        </p:nvSpPr>
        <p:spPr>
          <a:xfrm>
            <a:off x="230040" y="2035080"/>
            <a:ext cx="8775720" cy="448092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putation is a new element for ages 3 to 16.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uided learner-led approaches and ‘thematic’ learning.</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tter balance between knowledge acquisition and skills development through real-world learning experience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kely to require a multidisciplinary approach.</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seamless transitions – with greater clarity over prior learning and next step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utdoor learning to enhance the learning experience.</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mphasis on the impacts of science and technology on learners’ lives and the environment.</a:t>
            </a:r>
            <a:r>
              <a:rPr b="0" lang="en-US" sz="2400" spc="-1" strike="noStrike">
                <a:solidFill>
                  <a:srgbClr val="000000"/>
                </a:solidFill>
                <a:latin typeface="Arial"/>
                <a:ea typeface="Arial"/>
              </a:rPr>
              <a:t>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What Matters in </a:t>
            </a:r>
            <a:br>
              <a:rPr sz="3800"/>
            </a:br>
            <a:r>
              <a:rPr b="1" lang="en-US" sz="3800" spc="-1" strike="noStrike">
                <a:solidFill>
                  <a:srgbClr val="706f6f"/>
                </a:solidFill>
                <a:latin typeface="Arial"/>
                <a:ea typeface="Arial"/>
              </a:rPr>
              <a:t>Science and Technology</a:t>
            </a:r>
            <a:endParaRPr b="0" lang="en-US" sz="3800" spc="-1" strike="noStrike">
              <a:solidFill>
                <a:srgbClr val="000000"/>
              </a:solidFill>
              <a:latin typeface="Calibri"/>
            </a:endParaRPr>
          </a:p>
        </p:txBody>
      </p:sp>
      <p:sp>
        <p:nvSpPr>
          <p:cNvPr id="127" name="Rectangle 2"/>
          <p:cNvSpPr/>
          <p:nvPr/>
        </p:nvSpPr>
        <p:spPr>
          <a:xfrm>
            <a:off x="230040" y="2467080"/>
            <a:ext cx="8775720" cy="41137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Being curious and searching for answers helps further our understanding of the natural world and helps society progres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sign thinking and engineering are technical and creative endeavours intended to meet society’s needs and want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 world around us is full of living things which depend on each other for survival.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nderstanding the atomic nature of matter and how it shapes the world.</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ces and energy determine the structure and dynamics of the universe.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mputation applies algorithms to data in order to solve </a:t>
            </a:r>
            <a:br>
              <a:rPr sz="2200"/>
            </a:br>
            <a:r>
              <a:rPr b="0" lang="en-GB" sz="2200" spc="-1" strike="noStrike">
                <a:solidFill>
                  <a:srgbClr val="000000"/>
                </a:solidFill>
                <a:latin typeface="Arial"/>
                <a:ea typeface="Arial"/>
              </a:rPr>
              <a:t>real-world proble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did we get here?</a:t>
            </a:r>
            <a:br>
              <a:rPr sz="3800"/>
            </a:br>
            <a:r>
              <a:rPr b="1" lang="en-US" sz="3800" spc="-1" strike="noStrike">
                <a:solidFill>
                  <a:srgbClr val="706f6f"/>
                </a:solidFill>
                <a:latin typeface="Arial"/>
                <a:ea typeface="Arial"/>
              </a:rPr>
              <a:t>Approach</a:t>
            </a:r>
            <a:endParaRPr b="0" lang="en-US" sz="3800" spc="-1" strike="noStrike">
              <a:solidFill>
                <a:srgbClr val="000000"/>
              </a:solidFill>
              <a:latin typeface="Calibri"/>
            </a:endParaRPr>
          </a:p>
        </p:txBody>
      </p:sp>
      <p:sp>
        <p:nvSpPr>
          <p:cNvPr id="129" name="Rectangle 2"/>
          <p:cNvSpPr/>
          <p:nvPr/>
        </p:nvSpPr>
        <p:spPr>
          <a:xfrm>
            <a:off x="230040" y="2517840"/>
            <a:ext cx="8775720" cy="310824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llaborative work and research to create and trial different ideas; substantial expert advice. </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xperiments with a thematic approach using traditional subjects in five broad what matters statements limited progression and opportunities for specialist study later on.</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approach is based on principles in ‘Big Ideas of Science’.</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result is six interrelated what matters statements that are more accessible for all teachers, facilitating broad and specialist learn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1" name="Rectangle 2"/>
          <p:cNvSpPr/>
          <p:nvPr/>
        </p:nvSpPr>
        <p:spPr>
          <a:xfrm>
            <a:off x="230040" y="1868400"/>
            <a:ext cx="8775720" cy="4539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actitioners</a:t>
            </a:r>
            <a:r>
              <a:rPr b="0" lang="en-GB" sz="2200" spc="-1" strike="noStrike">
                <a:solidFill>
                  <a:srgbClr val="000000"/>
                </a:solidFill>
                <a:latin typeface="Arial"/>
                <a:ea typeface="Arial"/>
              </a:rPr>
              <a:t>: Pioneers and non-pioneers, regional consortia advisors, further education.</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Science </a:t>
            </a:r>
            <a:r>
              <a:rPr b="0" lang="en-GB" sz="2200" spc="-1" strike="noStrike">
                <a:solidFill>
                  <a:srgbClr val="000000"/>
                </a:solidFill>
                <a:latin typeface="Arial"/>
                <a:ea typeface="Arial"/>
              </a:rPr>
              <a:t>and</a:t>
            </a:r>
            <a:r>
              <a:rPr b="1" lang="en-GB" sz="2200" spc="-1" strike="noStrike">
                <a:solidFill>
                  <a:srgbClr val="000000"/>
                </a:solidFill>
                <a:latin typeface="Arial"/>
                <a:ea typeface="Arial"/>
              </a:rPr>
              <a:t> principles for progression</a:t>
            </a:r>
            <a:r>
              <a:rPr b="0" lang="en-GB" sz="2200" spc="-1" strike="noStrike">
                <a:solidFill>
                  <a:srgbClr val="000000"/>
                </a:solidFill>
                <a:latin typeface="Arial"/>
                <a:ea typeface="Arial"/>
              </a:rPr>
              <a:t>: Professor Wynne Harlen. </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Design and Technology</a:t>
            </a:r>
            <a:r>
              <a:rPr b="0" lang="en-GB" sz="2200" spc="-1" strike="noStrike">
                <a:solidFill>
                  <a:srgbClr val="000000"/>
                </a:solidFill>
                <a:latin typeface="Arial"/>
                <a:ea typeface="Arial"/>
              </a:rPr>
              <a:t>: Dr David Barlex and Torben Steeg.</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putational concepts: </a:t>
            </a:r>
            <a:r>
              <a:rPr b="0" lang="en-GB" sz="2200" spc="-1" strike="noStrike">
                <a:solidFill>
                  <a:srgbClr val="000000"/>
                </a:solidFill>
                <a:latin typeface="Arial"/>
                <a:ea typeface="Arial"/>
              </a:rPr>
              <a:t>Professor Crick, Professor Moller – Swansea University.</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Science and Technology in Wales: </a:t>
            </a:r>
            <a:r>
              <a:rPr b="0" lang="en-GB" sz="2200" spc="-1" strike="noStrike">
                <a:solidFill>
                  <a:srgbClr val="000000"/>
                </a:solidFill>
                <a:latin typeface="Arial"/>
                <a:ea typeface="Arial"/>
              </a:rPr>
              <a:t>Professor Tucker/Learned Society of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3" name="Rectangle 2"/>
          <p:cNvSpPr/>
          <p:nvPr/>
        </p:nvSpPr>
        <p:spPr>
          <a:xfrm>
            <a:off x="230040" y="1868400"/>
            <a:ext cx="8775720" cy="3595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br>
              <a:rPr sz="2200"/>
            </a:b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ternational curricula considered</a:t>
            </a:r>
            <a:r>
              <a:rPr b="0" lang="en-GB" sz="2200" spc="-1" strike="noStrike">
                <a:solidFill>
                  <a:srgbClr val="000000"/>
                </a:solidFill>
                <a:latin typeface="Arial"/>
                <a:ea typeface="Arial"/>
              </a:rPr>
              <a:t>: Estonia, Germany, Australia, New Zealand, USA, British Columbia, Singapore, Ontario, Finland and Scotland.</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xpert advice and inputs: </a:t>
            </a:r>
            <a:r>
              <a:rPr b="0" lang="en-GB" sz="2200" spc="-1" strike="noStrike">
                <a:solidFill>
                  <a:srgbClr val="000000"/>
                </a:solidFill>
                <a:latin typeface="Arial"/>
                <a:ea typeface="Arial"/>
              </a:rPr>
              <a:t>Institute of Physics, Royal Society of Chemistry, Royal Society of Biology, Wellcome Trust, DATA, Estyn, higher education institutes (Cardiff Met, Cardiff, Swansea, Bangor, Glasgow, Stirling, University of Wales Trinity St David, Aberdeen), Engineering UK, Qualifications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5" name="Rectangle 2"/>
          <p:cNvSpPr/>
          <p:nvPr/>
        </p:nvSpPr>
        <p:spPr>
          <a:xfrm>
            <a:off x="230040" y="1868400"/>
            <a:ext cx="8775720" cy="310824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ow will your leaders, practitioners and networks be able to prepare for the next phase of co-construction and provide meaningful feedback?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if any, are the resourcing implications (national and local)?</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 could you approach whole-school and/or inter-departmental approaches to both:</a:t>
            </a:r>
            <a:br>
              <a:rPr sz="2200"/>
            </a:br>
            <a:r>
              <a:rPr b="0" lang="en-US" sz="2200" spc="-1" strike="noStrike">
                <a:solidFill>
                  <a:srgbClr val="000000"/>
                </a:solidFill>
                <a:latin typeface="Arial"/>
                <a:ea typeface="Arial"/>
              </a:rPr>
              <a:t>–  knowing </a:t>
            </a:r>
            <a:r>
              <a:rPr b="1" lang="en-US" sz="2200" spc="-1" strike="noStrike">
                <a:solidFill>
                  <a:srgbClr val="000000"/>
                </a:solidFill>
                <a:latin typeface="Arial"/>
                <a:ea typeface="Arial"/>
              </a:rPr>
              <a:t>about</a:t>
            </a:r>
            <a:r>
              <a:rPr b="0" lang="en-US" sz="2200" spc="-1" strike="noStrike">
                <a:solidFill>
                  <a:srgbClr val="000000"/>
                </a:solidFill>
                <a:latin typeface="Arial"/>
                <a:ea typeface="Arial"/>
              </a:rPr>
              <a:t> the new curriculum?</a:t>
            </a:r>
            <a:br>
              <a:rPr sz="2200"/>
            </a:br>
            <a:r>
              <a:rPr b="0" lang="en-US" sz="2200" spc="-1" strike="noStrike">
                <a:solidFill>
                  <a:srgbClr val="000000"/>
                </a:solidFill>
                <a:latin typeface="Arial"/>
                <a:ea typeface="Arial"/>
              </a:rPr>
              <a:t>–  understanding </a:t>
            </a:r>
            <a:r>
              <a:rPr b="1" lang="en-US" sz="2200" spc="-1" strike="noStrike">
                <a:solidFill>
                  <a:srgbClr val="000000"/>
                </a:solidFill>
                <a:latin typeface="Arial"/>
                <a:ea typeface="Arial"/>
              </a:rPr>
              <a:t>how to do </a:t>
            </a:r>
            <a:r>
              <a:rPr b="0" lang="en-US" sz="2200" spc="-1" strike="noStrike">
                <a:solidFill>
                  <a:srgbClr val="000000"/>
                </a:solidFill>
                <a:latin typeface="Arial"/>
                <a:ea typeface="Arial"/>
              </a:rPr>
              <a:t>the new curriculum?</a:t>
            </a:r>
            <a:endParaRPr b="0" lang="en-US" sz="2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08:53:25Z</dcterms:created>
  <dc:creator>Griffiths, Victoria (OFMCO - Communications)</dc:creator>
  <dc:description/>
  <dc:language>en-US</dc:language>
  <cp:lastModifiedBy>Harvey, Karen - (Communications)</cp:lastModifiedBy>
  <cp:lastPrinted>2019-02-13T12:51:56Z</cp:lastPrinted>
  <dcterms:modified xsi:type="dcterms:W3CDTF">2019-03-21T14:59:1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32123</vt:lpwstr>
  </property>
  <property fmtid="{D5CDD505-2E9C-101B-9397-08002B2CF9AE}" pid="3" name="Objective-Caveats">
    <vt:lpwstr/>
  </property>
  <property fmtid="{D5CDD505-2E9C-101B-9397-08002B2CF9AE}" pid="4" name="Objective-Classification">
    <vt:lpwstr>[Inherited - Official]</vt:lpwstr>
  </property>
  <property fmtid="{D5CDD505-2E9C-101B-9397-08002B2CF9AE}" pid="5" name="Objective-Comment">
    <vt:lpwstr/>
  </property>
  <property fmtid="{D5CDD505-2E9C-101B-9397-08002B2CF9AE}" pid="6" name="Objective-Connect Creator">
    <vt:lpwstr/>
  </property>
  <property fmtid="{D5CDD505-2E9C-101B-9397-08002B2CF9AE}" pid="7" name="Objective-Connect Creator [system]">
    <vt:lpwstr/>
  </property>
  <property fmtid="{D5CDD505-2E9C-101B-9397-08002B2CF9AE}" pid="8" name="Objective-CreationStamp">
    <vt:filetime>2019-02-18T10:50:46Z</vt:filetime>
  </property>
  <property fmtid="{D5CDD505-2E9C-101B-9397-08002B2CF9AE}" pid="9" name="Objective-Date Acquired">
    <vt:filetime>2019-02-18T23:59:59Z</vt:filetime>
  </property>
  <property fmtid="{D5CDD505-2E9C-101B-9397-08002B2CF9AE}" pid="10" name="Objective-Date Acquired [system]">
    <vt:filetime>2019-02-18T00:00:00Z</vt:filetime>
  </property>
  <property fmtid="{D5CDD505-2E9C-101B-9397-08002B2CF9AE}" pid="11" name="Objective-DatePublished">
    <vt:filetime>2019-02-22T11:56:55Z</vt:filetime>
  </property>
  <property fmtid="{D5CDD505-2E9C-101B-9397-08002B2CF9AE}" pid="12" name="Objective-Description">
    <vt:lpwstr/>
  </property>
  <property fmtid="{D5CDD505-2E9C-101B-9397-08002B2CF9AE}" pid="13" name="Objective-FileNumber">
    <vt:lpwstr/>
  </property>
  <property fmtid="{D5CDD505-2E9C-101B-9397-08002B2CF9AE}" pid="14" name="Objective-Id">
    <vt:lpwstr>A25278422</vt:lpwstr>
  </property>
  <property fmtid="{D5CDD505-2E9C-101B-9397-08002B2CF9AE}" pid="15" name="Objective-IsApproved">
    <vt:bool>0</vt:bool>
  </property>
  <property fmtid="{D5CDD505-2E9C-101B-9397-08002B2CF9AE}" pid="16" name="Objective-IsPublished">
    <vt:bool>1</vt:bool>
  </property>
  <property fmtid="{D5CDD505-2E9C-101B-9397-08002B2CF9AE}" pid="17" name="Objective-Language">
    <vt:lpwstr>English (eng)</vt:lpwstr>
  </property>
  <property fmtid="{D5CDD505-2E9C-101B-9397-08002B2CF9AE}" pid="18" name="Objective-Language [system]">
    <vt:lpwstr>English (eng)</vt:lpwstr>
  </property>
  <property fmtid="{D5CDD505-2E9C-101B-9397-08002B2CF9AE}" pid="19" name="Objective-ModificationStamp">
    <vt:filetime>2019-02-22T11:56:55Z</vt:filetime>
  </property>
  <property fmtid="{D5CDD505-2E9C-101B-9397-08002B2CF9AE}" pid="20" name="Objective-Official Translation">
    <vt:lpwstr/>
  </property>
  <property fmtid="{D5CDD505-2E9C-101B-9397-08002B2CF9AE}" pid="21" name="Objective-Official Translation [system]">
    <vt:lpwstr/>
  </property>
  <property fmtid="{D5CDD505-2E9C-101B-9397-08002B2CF9AE}" pid="22" name="Objective-Owner">
    <vt:lpwstr>Brown, Andrew (EPS - Digital and Strategic Comms)</vt:lpwstr>
  </property>
  <property fmtid="{D5CDD505-2E9C-101B-9397-08002B2CF9AE}" pid="23" name="Objective-Parent">
    <vt:lpwstr>Preparing for the new curriculum - presentation packs</vt:lpwstr>
  </property>
  <property fmtid="{D5CDD505-2E9C-101B-9397-08002B2CF9AE}" pid="24" name="Objective-Path">
    <vt:lpwstr>Objective Global Folder:Business File Plan:Education &amp; Public Services (EPS):Education &amp; Public Services (EPS) - Operations Directorate:1 - Save:6. EPS Digital &amp; Strategic Communications:Strategic Communications &amp; Marketing - Education &amp; Welsh Language:Ed</vt:lpwstr>
  </property>
  <property fmtid="{D5CDD505-2E9C-101B-9397-08002B2CF9AE}" pid="25" name="Objective-State">
    <vt:lpwstr>Published</vt:lpwstr>
  </property>
  <property fmtid="{D5CDD505-2E9C-101B-9397-08002B2CF9AE}" pid="26" name="Objective-Title">
    <vt:lpwstr>Curriculum 2022 - Information packs - Science and technology - FINAL with notes (E) 18.02.19</vt:lpwstr>
  </property>
  <property fmtid="{D5CDD505-2E9C-101B-9397-08002B2CF9AE}" pid="27" name="Objective-Version">
    <vt:lpwstr>2.0</vt:lpwstr>
  </property>
  <property fmtid="{D5CDD505-2E9C-101B-9397-08002B2CF9AE}" pid="28" name="Objective-VersionComment">
    <vt:lpwstr/>
  </property>
  <property fmtid="{D5CDD505-2E9C-101B-9397-08002B2CF9AE}" pid="29" name="Objective-VersionId">
    <vt:lpwstr>vA50234622</vt:lpwstr>
  </property>
  <property fmtid="{D5CDD505-2E9C-101B-9397-08002B2CF9AE}" pid="30" name="Objective-VersionNumber">
    <vt:r8>4</vt:r8>
  </property>
  <property fmtid="{D5CDD505-2E9C-101B-9397-08002B2CF9AE}" pid="31" name="Objective-What to Keep">
    <vt:lpwstr>No</vt:lpwstr>
  </property>
  <property fmtid="{D5CDD505-2E9C-101B-9397-08002B2CF9AE}" pid="32" name="Objective-What to Keep [system]">
    <vt:lpwstr>No</vt:lpwstr>
  </property>
</Properties>
</file>